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782-BC34-418B-86FF-5FDB9C1C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DAB-FA7A-4DB7-ABD1-700FB82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5F4-6115-43D3-87E3-38D81DB9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24A-CDB4-4051-B265-90E9D250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1EBE-4632-4D30-8F1C-82E475FE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FA1-1A05-40B1-A83D-26A3BFD5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90DB-B6CB-4C89-8875-A07B016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CA87-F153-406A-A4AF-C277034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712-C509-451C-9B0E-B7CC94B2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561B-96F1-4785-8726-9D4EF3ED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DF03-41D1-41AD-97A7-0A311ED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F90-7173-47E5-8F38-C972D4CB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A309-D9BF-4100-B78E-8CDABF62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515-6868-4087-91A8-52A184F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F298-22C9-48E7-92FC-205CCB8E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1CA-EF58-474D-AE7A-7988DEAC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A418-628A-4A3F-B44A-CC93966B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6EA-30AA-42C9-9FE2-C93BC0C9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086-7949-4E2A-9940-C82728D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9F6-09C2-4F5C-A6A4-F02BC6FC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B14-BF3B-48CA-9AC5-9093E629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C4E-24A3-4ADD-9C4B-B38467B7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B50-8998-45B1-9C0D-EC0089A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4D8-735D-456E-BBC9-76DD322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921-6310-4996-AAFE-B14B84D3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9EF-904A-40D2-A197-51B773AB1B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can09-03-02 1249"/>
          <p:cNvPicPr/>
          <p:nvPr/>
        </p:nvPicPr>
        <p:blipFill>
          <a:blip r:embed="rId1"/>
          <a:srcRect l="0" t="27346" r="49299" b="-269"/>
          <a:stretch/>
        </p:blipFill>
        <p:spPr>
          <a:xfrm>
            <a:off x="3048120" y="228600"/>
            <a:ext cx="3346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rsaw Pac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y alliance between Soviet Union and it’s satellite nations (Eastern Euro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esponse to West Germany joining 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NATO_vs_Warsaw_%281949-1990%29"/>
          <p:cNvPicPr/>
          <p:nvPr/>
        </p:nvPicPr>
        <p:blipFill>
          <a:blip r:embed="rId1"/>
          <a:stretch/>
        </p:blipFill>
        <p:spPr>
          <a:xfrm>
            <a:off x="152280" y="3733920"/>
            <a:ext cx="8991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ikita Khrushchev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&gt; 30,000 Hungarians fighting to leave Warsaw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Nikita Khrushchev"/>
          <p:cNvPicPr/>
          <p:nvPr/>
        </p:nvPicPr>
        <p:blipFill>
          <a:blip r:embed="rId2"/>
          <a:stretch/>
        </p:blipFill>
        <p:spPr>
          <a:xfrm>
            <a:off x="5257800" y="1981080"/>
            <a:ext cx="36702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S Budget for Defens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40 – 1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0 – 3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 – 5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 – 2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6 – 36%  $600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efense spending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E:\BHS US History\Unit 9 Cold War and JFK\ch 15 Cold War\nuclear monster pc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IV.  Eisenhower’s Cold War Polic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ensions continue to grow between S.U. &amp;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the H-Bomb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Union now had the A-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needed to have a nuclear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x’s stro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year later, Soviets make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Castle_Bravo_2-29-1954"/>
          <p:cNvPicPr/>
          <p:nvPr/>
        </p:nvPicPr>
        <p:blipFill>
          <a:blip r:embed="rId1"/>
          <a:stretch/>
        </p:blipFill>
        <p:spPr>
          <a:xfrm>
            <a:off x="5181480" y="2286000"/>
            <a:ext cx="38102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licy of Brinkmanship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go to the brink, or edge, or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 arms race en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practice air-r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u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. of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" descr="John Foster Dulles"/>
          <p:cNvPicPr/>
          <p:nvPr/>
        </p:nvPicPr>
        <p:blipFill>
          <a:blip r:embed="rId2"/>
          <a:stretch/>
        </p:blipFill>
        <p:spPr>
          <a:xfrm>
            <a:off x="5867280" y="1523880"/>
            <a:ext cx="2433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uck and co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952 Election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wight D. Eisenhow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wight D. Eisenhower"/>
          <p:cNvPicPr/>
          <p:nvPr/>
        </p:nvPicPr>
        <p:blipFill>
          <a:blip r:embed="rId1"/>
          <a:stretch/>
        </p:blipFill>
        <p:spPr>
          <a:xfrm>
            <a:off x="3429000" y="2057400"/>
            <a:ext cx="3338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ntral Intelligence Agency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ka CI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cy used spies to gather info abroad as well as carrying out covert actions in “unfriendly”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249px-CIA"/>
          <p:cNvPicPr/>
          <p:nvPr/>
        </p:nvPicPr>
        <p:blipFill>
          <a:blip r:embed="rId2"/>
          <a:stretch/>
        </p:blipFill>
        <p:spPr>
          <a:xfrm>
            <a:off x="5181480" y="1981080"/>
            <a:ext cx="338004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vert Action in the Middle East and Latin Americ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n: PM Mohammed Mossadegh placed oil industry under gov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 persuades shah of Iran to replace PM with friendlier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 gives land to peas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rains army and overthrows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isenhower Doctr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 Middle East from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Dwight D. Eisenhower"/>
          <p:cNvPicPr/>
          <p:nvPr/>
        </p:nvPicPr>
        <p:blipFill>
          <a:blip r:embed="rId2"/>
          <a:stretch/>
        </p:blipFill>
        <p:spPr>
          <a:xfrm>
            <a:off x="5334120" y="1981080"/>
            <a:ext cx="3276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2-27T03:56:20Z</dcterms:modified>
  <cp:revision>11</cp:revision>
  <dc:subject/>
  <dc:title>PowerPoint Presentation</dc:title>
</cp:coreProperties>
</file>